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248-A239-4A36-8CA6-19DE2705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D51-ABF0-46CB-AAEE-5379D4E6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619-8931-4ED6-8CE9-CFC757AE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634-8F3A-4CC4-91AC-27E21783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997-393E-475F-9FC5-04FBA90C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7CC-4ABF-4DE4-B0A5-4863022A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226-E5C2-40B6-87AA-926BCE9C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CEA-7F2E-4D3A-B772-AA09C2DD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82A-30E8-4E97-BECF-2E029F90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B5B-45A8-4A3D-9E56-F4787E6A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490-2CA3-419C-818B-FFA68352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8C6-43D6-4955-B662-62966B5E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8CD3-E558-4BB2-9122-0056A96BE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2663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АЛГОРИТМ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ДОБРОВІЛЬНОГО ОБ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ЄДНАННЯ ТЕРИТОРІАЛЬНИХ ГРОМ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vycherpno.ck.ua/wp-content/uploads/2015/11/grom-710x434.jpg"/>
          <p:cNvPicPr/>
          <p:nvPr/>
        </p:nvPicPr>
        <p:blipFill>
          <a:blip r:embed="rId1"/>
          <a:stretch/>
        </p:blipFill>
        <p:spPr>
          <a:xfrm>
            <a:off x="3924360" y="2852640"/>
            <a:ext cx="5113440" cy="3125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3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840" y="714240"/>
            <a:ext cx="86439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 міський (селищний, сільський) голо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РЯДЖЕ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«____» ________ 2016 року № _____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вивчення пропозицій щодо ініціюва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ільного об’єднання територіальних громад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її громадське обговоре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частини 3 статті 5 Закону України «Про добровільне об’єднання територіальних громад», статей 42, 59 Закону України «Про місцеве самоврядування в Україні»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ровести вивчення звернення (пропозиції) депутатів міської (селищної, сільської) ради (членів територіальної громади, органів самоорганізації населення) про добровільне об’єднання територіальних громад та подати відповідні пропозиції (зазначається відповідальний виконавець або орган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громадське обговорення щодо можливого добровільного об’єднання територіальних громад протягом 30 днів з дня прийняття цього розпорядження (зазначається відповідальний виконавець або орган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ключити до порядку денного _______ сесії ____ скликання ________ міської (селищної, сільської) ради питання про добровільне об’єднання територіальних громад сіл _______, _______, ______ сільської ради, села_____________, селища__________ ______________ селищної ради…. в __________________ територіальну громаду з центром у місті (селищі, селі) _______________ . 4. Контроль за виконанням розпорядження залишаю за собою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 міський (селищний, сільський) голова _______________ ПІ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ВАГА!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Сільський, селищний, міський голова суміжної територіальної громади забезпечує вивчення пропозиції щодо добровільного об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нання територіальних громад та громадське обговоренн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протязі 30 днів з дня надходження пропозиції від ініціатора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11280" y="1125360"/>
          <a:ext cx="8064360" cy="46688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46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 сесі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71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йняття сільською, селищною, міською радою рішення «Про затвердження Порядку проведення громадських обговорень з питань добровільного об’єднання територіальних громад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719280" algn="just"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719280" algn="just"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ведення громадського обговорення, оформлення протокол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719280" algn="just"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http://persha.kr.ua/wp-content/uploads/2014/04/top-photo-300x225.jpg"/>
          <p:cNvPicPr/>
          <p:nvPr/>
        </p:nvPicPr>
        <p:blipFill>
          <a:blip r:embed="rId1"/>
          <a:stretch/>
        </p:blipFill>
        <p:spPr>
          <a:xfrm>
            <a:off x="2771640" y="4508640"/>
            <a:ext cx="2857680" cy="21430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11280" y="1125360"/>
          <a:ext cx="8064360" cy="46688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46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 сесі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Після завершення громадського обговорення пропозиція подається до відповідної ради на сесію для прийняття рішення про надання згоди на добровільне об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днання територіальних громад та делегування представника (представників) до спільної робочої групи або про відмову в наданні згод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" descr="http://eenu.edu.ua/sites/default/files/field/image/dialog.jpg"/>
          <p:cNvPicPr/>
          <p:nvPr/>
        </p:nvPicPr>
        <p:blipFill>
          <a:blip r:embed="rId1"/>
          <a:stretch/>
        </p:blipFill>
        <p:spPr>
          <a:xfrm>
            <a:off x="3348000" y="4724280"/>
            <a:ext cx="3024360" cy="19242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___________ міська (селищна, сільська) рад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ШЕННЯ _____сесії ___ склика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д «___» ________ № ______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 надання згоди на добровільне об’єдна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иторіальних громад та делегува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едставника до спільної робочої груп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ідповідно до частини 2 статті 6 Закону України «Про добровільне об’єднання територіальних громад», розглянувши ініціативу (пропозиції) міського голови м. Городка щодо об’єднання, результати громадських обговорень, _______ міська (селищна, сільська) рада вирішила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ати згоду на добровільне об’єднання територіальних громад сіл, _______, ______ сільської ради, села_____________, селища__________ ______________ селищної ради… в __________________ територіальну громаду з центром у місті Городок._____________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легувати міського (селищного, сільського) голову до складу робочої групи з підготовки проектів рішень щодо добровільного об’єднання територіальних грома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__________ міський (селищний, сільський) голова _______________ ПІБ</a:t>
            </a: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5. Надсилання ініціатору рішення про надання згоди на добровільне о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єднання територіальних громад та делегування представника (представників) до спільної робочої груп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ВАГ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пільна робоча формується з однакової кількості представників від кожної територіальної громади, що об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єдн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Утворення спільної робочої групи є початком процедури добровільного об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єднання територіальних гром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loda.gov.ua/cache/thumbnails/i/images_1441694109_284x178_3_0.jpg"/>
          <p:cNvPicPr/>
          <p:nvPr/>
        </p:nvPicPr>
        <p:blipFill>
          <a:blip r:embed="rId1"/>
          <a:stretch/>
        </p:blipFill>
        <p:spPr>
          <a:xfrm>
            <a:off x="5435640" y="4508640"/>
            <a:ext cx="2705040" cy="1695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79280" y="115920"/>
          <a:ext cx="8785440" cy="6346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ІІ етап: ПІДГОТОВКА РІШЕНЬ ПРО ОБ’ЄДНАН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9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Прийняття ініціатором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порядження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 утворення спільної робочої групи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підготовки проектів рішень щодо добровільного об’єднання територіальних громад»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з дорученням робочій групі підготувати проект рішення щодо добровільного об’єднання територіальних громад з врахуванням вимог ст. 7 Закону до проектів рішень щодо добровільного об’єднання територіальних громад, а саме: проект рішення щодо добровільного об’єднання територіальних громад повинен, зокрема, місти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перелік територіальних громад, що об’єднуються, із зазначенням відповідних населених пункті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визначення адміністративного центру об’єднаної територіальної громади та її найменуванн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 план організаційних заходів щодо добровільного об’єднання територіальних грома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нформування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о утворення спільної робочої групи з підготовки проекту рішення щодо добровільного об’єднання територіальних громад обласну раду і обласну державну адміністрацію шляхом надсилання листа та копії розпорядж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Спільна робоча група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ує проект рішення про добровільне об’єднання територіальних громад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а надсилає його територіальним громадам, яким запропоновано об'єднатися, для обговор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Прийняття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порядження «Про проведення громадського обговорення проекту рішення про об'єднання»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иторіальною громадою, в якій ініційовано питання про добровільне об’єднання територіальних грома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Проведення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омадського обговорення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оекту рішення про добровільне об’єднання територіальних громад, оформлення  протокол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89000"/>
          <a:ext cx="8785440" cy="6508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ІІІ етап: РІШЕННЯ ЩОДО ДОБРОВІЛЬНОГО ОБ’ЄДНАННЯ ТЕРИТОРІАЛЬНИХ ГРОМ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ІІ сесі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Прийняття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ільською, селищною, міською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ою громади, в якій ініційовано питання про добровільне об’єднання територіальних громад,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ішення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 схвалення проекту рішення «Про добровільне об’єднання територіальних громад»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урахуванням результатів громадського обговорен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Отримання від сільських, селищних, міських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 рішень про схвалення проекту рішення  щодо добровільного об’єднання територіальних громад, яким запропоновано об'єднати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У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’ЯТИ</a:t>
                      </a: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енний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ання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ласній державній адміністрації від усіх учасників о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днання схвалених проектів рішень про добровільне об’єднання територіальних громад для отримання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сновку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одо відповідності цього проекту Конституції та законам Украї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13" descr="https://encrypted-tbn2.gstatic.com/images?q=tbn:ANd9GcSklCWAJiynq0K_KOqpXWrZ3KIueSF3VAujkmW4B1gWkzm2m9ffcQ"/>
          <p:cNvPicPr/>
          <p:nvPr/>
        </p:nvPicPr>
        <p:blipFill>
          <a:blip r:embed="rId1"/>
          <a:stretch/>
        </p:blipFill>
        <p:spPr>
          <a:xfrm rot="21195000">
            <a:off x="2903400" y="5170320"/>
            <a:ext cx="1105200" cy="1390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Результат пошуку зображень за запитом &quot;позитивний висновок&quot;"/>
          <p:cNvPicPr/>
          <p:nvPr/>
        </p:nvPicPr>
        <p:blipFill>
          <a:blip r:embed="rId2"/>
          <a:stretch/>
        </p:blipFill>
        <p:spPr>
          <a:xfrm rot="229800">
            <a:off x="4157280" y="5472000"/>
            <a:ext cx="8175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79280" y="115920"/>
          <a:ext cx="8785440" cy="65041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ІV етап: УТВОРЕННЯ ОБ’ЄДНАНОЇ ТЕРИТОРІАЛЬНОЇ ГРОМ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V сесі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Після отримання позитивного висновку щодо відповідності проекту Конституції та законам України (протягом 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 робочих днів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ромада, в якій ініційовано питання про добровільне об’єднання територіальних громад,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ЙМАЄ   РІШЕННЯ «ПРО ДОБРОВІЛЬНЕ ОБ’ЄДНАННЯ ТЕРИТОРІАЛЬНИХ ГРОМАД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верненн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ільського, селищного, міського голови територіальної громади, в якій ініційовано питання про добровільне об’єднання територіальних громад, до обласної державної адміністрації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пропозицією звернутися до Центральної виборчої комісії для прийняття нею рішення про призначення перших виборів депутатів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ільської, селищної, міської рад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повідного сільського, селищного, міського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и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 установленому законом порядк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ом із зверненням необхідно подати рішення “Про добровільне о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днання територіальних громад” та копії таких рішень від громад, які  дали згоду на о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днанн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ласна державна адміністрац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протягом 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 робочих днів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 дня отримання рішень про добровільне об’єднання територіальних громад у разі їх відповідності висновку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вертається до Центральної виборчої комісії для прийняття нею рішення про призначення перших виборів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путатів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сільської, селищної, міської ради та відповідного сільського, селищного, міського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лови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в установленому законом порядку. Про таке зверне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ласна державна адміністрац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дночасно інформує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відповідні обласні ради, відповідні ради, що прийняли рішення про добровільне об’єднання територіальних гром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5280" y="333000"/>
            <a:ext cx="8229600" cy="511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Стаття 8.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 Утворення об’єднаної територіальної громади Закону Україн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Про добровільне об’єднання територіальних громад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Об’єднана територіальна громада вважається утвореною </a:t>
            </a:r>
            <a:r>
              <a:rPr b="1" i="1" lang="uk-UA" sz="2600" spc="-1" strike="noStrike">
                <a:solidFill>
                  <a:srgbClr val="ff0000"/>
                </a:solidFill>
                <a:latin typeface="Calibri"/>
              </a:rPr>
              <a:t>З ДНЯ НАБРАННЯ ЧИННОСТІ РІШЕННЯМИ ВСІХ РАД</a:t>
            </a: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, що прийняли рішення про добровільне об’єднання територіальних громад, ТА </a:t>
            </a:r>
            <a:r>
              <a:rPr b="1" i="1" lang="uk-UA" sz="2600" spc="-1" strike="noStrike">
                <a:solidFill>
                  <a:srgbClr val="ff0000"/>
                </a:solidFill>
                <a:latin typeface="Calibri"/>
              </a:rPr>
              <a:t>ЗА УМОВИ ВІДПОВІДНОСТІ РІШЕНЬ ВИСНОВКУ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про</a:t>
            </a: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відповідність проекту рішення щодо добровільного об’єднання територіальних громад Конституції та законам Україн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53964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http://loda.gov.ua/cache/thumbnails/i/images_1441694109_284x178_3_0.jpg"/>
          <p:cNvPicPr/>
          <p:nvPr/>
        </p:nvPicPr>
        <p:blipFill>
          <a:blip r:embed="rId1"/>
          <a:stretch/>
        </p:blipFill>
        <p:spPr>
          <a:xfrm>
            <a:off x="3635280" y="5084640"/>
            <a:ext cx="2705040" cy="1695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 rot="20784000">
            <a:off x="3008520" y="488160"/>
            <a:ext cx="2927520" cy="1008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днуватися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іб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ежах затвердженого перспективного пла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ІФ"/>
          <p:cNvPicPr/>
          <p:nvPr/>
        </p:nvPicPr>
        <p:blipFill>
          <a:blip r:embed="rId1"/>
          <a:stretch/>
        </p:blipFill>
        <p:spPr>
          <a:xfrm rot="20806800">
            <a:off x="758520" y="360000"/>
            <a:ext cx="244476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58705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ДІЙ</a:t>
            </a:r>
            <a:br>
              <a:rPr sz="2200"/>
            </a:b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ільського, селищного, міського голови-ініціатора </a:t>
            </a:r>
            <a:br>
              <a:rPr sz="2200"/>
            </a:b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ільного об’єднання територіальн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9280" y="1413000"/>
          <a:ext cx="8785440" cy="5221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І етап: ІНІЦІЮВАННЯ ДОБРОВІЛЬНОГО ОБ’ЄДНАННЯ ТЕРИТОРІАЛЬНИХ ГРОМАД (ОТ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ІНІЦІЮВАННЯ МОЖЕ ВИРАЖАТИСЯ У ФОРМІ: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порядження про ініціюванн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вільного об’єднання територіальних громад у випадку ініціювання добровільного об'єднання сільським, селищним, міським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ою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озпорядження про вивчення пропозицій щодо ініціюванн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вільного об’єднання територіальних громад та її громадське обговорення у випадку ініціювання об'єднання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утатами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ами самоорганізації населення, членами територіальної громади.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озиція  про ініціювання повинна місти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перелік територіальних громад, що пропонуються до об’єднання, із зазначенням відповідних населених пункті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визначення адміністративного центру об’єднаної територіальної громади та її найменуван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9280" y="260280"/>
          <a:ext cx="8785440" cy="58914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ІІ етап: </a:t>
                      </a:r>
                      <a:r>
                        <a:rPr b="1" lang="uk-UA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ПІДГОТОВКА РІШЕНЬ ПРО ОБ’ЄДНАНН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4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 сесі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рийняття сільською, селищною, міською радою рішення «Про затвердження Порядку проведення громадських обговорень з питань добровільного об’єднання територіальних громад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2" descr="http://eenu.edu.ua/sites/default/files/field/image/dialog.jpg"/>
          <p:cNvPicPr/>
          <p:nvPr/>
        </p:nvPicPr>
        <p:blipFill>
          <a:blip r:embed="rId1"/>
          <a:stretch/>
        </p:blipFill>
        <p:spPr>
          <a:xfrm>
            <a:off x="3564000" y="4437000"/>
            <a:ext cx="2523960" cy="19242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755640" y="1197000"/>
            <a:ext cx="721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. Проведення громадського обговорення, оформлення проток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І сесі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йнятт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ід громади-ініціатора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ішення «Про надання згоди на добровільне об’єднання територіальних громад та делегування представника до спільної робочої групи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0880" y="274680"/>
            <a:ext cx="21859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214200" y="714240"/>
            <a:ext cx="871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 міська (селищна, сільська) ра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ШЕННЯ _____сесії ___ скликанн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«___» ________ № 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надання згоди на добровіль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днання територіальних гром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частини 1 статті 6 Закону України «Про добровільне об’єднання територіальних громад», розглянувши ініціативу (пропозиції) щодо об’єднання міського (селищного, сільського) голови (депутатів, членів територіальної громади, ОСН), результати громадських обговорень, _______ міська (селищна, сільська) рада виріш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и згоду на добровільне об’єднання територіальних громад сіл _______, _______, ______ сільської ради, села_____________, селища__________ ______________ селищної ради…. в __________________ територіальну громаду з центром у місті (селищі, селі) _______________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ькому (селищному, сільському) голові звернутися до ____________, ______________, ___________ рад з пропозицією про добровільне об’єднання територіальних гром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 міський (селищний, сільський) голова _______________ П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928800" y="2136600"/>
            <a:ext cx="742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дсиланн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упровідним листом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позиц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уміжним сільським, селищним, міським головам, яким запропоновано об'єднатися,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 надання згод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ідповідних територіальних громад  до об’єднанн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 про делегування представника до складу робочої груп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 відповідної територіальної гром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persha.kr.ua/wp-content/uploads/2014/04/top-photo-300x225.jpg"/>
          <p:cNvPicPr/>
          <p:nvPr/>
        </p:nvPicPr>
        <p:blipFill>
          <a:blip r:embed="rId1"/>
          <a:stretch/>
        </p:blipFill>
        <p:spPr>
          <a:xfrm>
            <a:off x="2771640" y="4508640"/>
            <a:ext cx="2857680" cy="21430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7120" y="928800"/>
            <a:ext cx="82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ькому(селищному, сільському) гол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мо розглянути пропозиції щодо добровільного об’єднання територіальних громад сіл _______, _______, ______ сільської ради, села _____________, селища__________ ______________ селищної ради…. в __________________ територіальну громаду з центром у місті Горо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и: 1. Ініціатива міського голови (розпорядження міського голов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ішення Городоцької міської ради №______ від «____» ________ 2016 року «Про надання згоди на добровільне об’єднання територіальних громад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ький голова                                                           Кущак Р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Розгляд сільським, селищним, міським головою суміжних територіальних громад звернення (пропозиції) від міського голови, в якій ініційовано добровільне об’єднан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ільський, селищний, міський голова розглядає таке звернення одним із можливих варіантів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накладанням резолюції на таке звернення (пропозицію) від сільського, селищного, міського голови місцевої ради, в якій ініційовано добровільне обєднання: «Секретарю ради вивчити надіслані пропозиції та забезпечити проведення громадських слухань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приймає відповідне розпорядженн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АЛГОРИТМ ДІЙ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ільських, селищних, міських голів, яким надіслано пропозиції щодо об'єдн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8T19:57:15Z</dcterms:created>
  <dc:creator>Admin</dc:creator>
  <dc:description/>
  <dc:language>en-US</dc:language>
  <cp:lastModifiedBy>admin</cp:lastModifiedBy>
  <dcterms:modified xsi:type="dcterms:W3CDTF">2017-03-07T08:22:10Z</dcterms:modified>
  <cp:revision>43</cp:revision>
  <dc:subject/>
  <dc:title>АЛГОРИТМ  ДОБРОВІЛЬНОГО ОБ’ЄДНАННЯ ТЕРИОРІАЛЬНИХ ГРОМАД</dc:title>
</cp:coreProperties>
</file>